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C8D-1146-465C-A183-7B4A374C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671-E87A-4871-9869-E9F835C9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94C-C376-4572-8DE6-1CD4373B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DA4-9131-4D8D-838E-9CEB2B9C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902E-5E1D-47DB-A43C-2E70A051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DC66-60AA-49DB-9132-3994EAA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4EC-00FF-4DA0-8ECE-35693F30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B505-B783-477D-BE03-708EE6C0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55DE-C3A7-4FD2-8E5B-35127572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C644-ED0D-4ED1-9D67-8EB55A9C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A8A7-0946-4147-B3C4-08CE354D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DE6-69CC-4AB9-A9BA-6B5418A0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F34B-25E6-4B1F-8E56-13A13C8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D522-8DED-4A28-826A-22388C69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BA7-88C5-4DB0-89E4-5EF2343D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F44F-3415-4CE0-8A95-086D6424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6563-EB11-4396-A37D-8089CC6A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488-4DA2-41FD-9695-337AD47B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794-BFC2-4F22-BD89-CDFCD111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CE7-8A29-4FEC-B037-1CF48B9A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F1A-C386-4100-9A3A-549AC782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829-EADC-49C7-BC97-3C42314B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F03-261A-4380-B516-CA724536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470-38D6-4902-AD2E-DEAA4A47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8E83-3083-49D0-A3A0-0A959B75F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4E57-8E48-4971-9B2E-E2E739724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Land Use Conflict in the Amazon Rainforest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7339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vironmentalis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slow the clearing of the Ama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 biodiversity. Possible cures in rare pla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acres of rainforest = 750 kinds of trees, 1,500 kinds of plants, 400 kinds of bi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 slower, smarter rainforest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as for Reducing Land Confli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cotou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Sustainabl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y products that protect rain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ide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y-Layered 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 floor 0-3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Story 3-100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py 100-165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oxygen cycle: carbon and oxygen cycle among plants, people and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ups that have interest in Amazon R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genous Peo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ber Ta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tle Ran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leads to LAND USE CONFL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digenous Peo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 is Amazon Rainforest (12,000 yr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don’t know outsid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zil wants to develop interior of their country. Ind. People su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genous People have learned to work with Govern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ubber Tapp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sap from certain trees that grow in rain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diagonal cuts in the bark, does NOT hurt the forest. It is sustain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 in Amaz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stop the widespread clearing of 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g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est trees for woo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ty of trees = large supplier of all types of furni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gers clear-cut whole patches of rain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ore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ttl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zil govt encourages poor ppl to move to the rain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ound it hard to farm in Amaz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has grown against them as they take more and mor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ttle Ranch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 large areas of land in Amaz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grasslands to gra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zil exports a lot of beef, but some still don’t think the deforestation is worth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47:50Z</dcterms:created>
  <dc:creator>tmoore</dc:creator>
  <dc:description/>
  <dc:language>en-US</dc:language>
  <cp:lastModifiedBy>tmoore</cp:lastModifiedBy>
  <dcterms:modified xsi:type="dcterms:W3CDTF">2009-05-11T18:59:01Z</dcterms:modified>
  <cp:revision>13</cp:revision>
  <dc:subject/>
  <dc:title>Land Use Conflict in the Amazon Rainforest</dc:title>
</cp:coreProperties>
</file>